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8A0-F84E-4434-91DF-705E18F7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42A-FFAE-4FE8-A4E0-77D2B2E0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C27-59E8-4C01-B75E-34AB8A29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A8E-7E66-4F48-B54F-C6C70313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35F-BBD3-4EE7-A624-1E7264BB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448-54BA-4268-9A0E-5A9EE439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899-6889-49B6-923A-277DBA40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7E3-265B-4DAF-8359-5C7711F1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F1C-A459-4679-9987-E19C7D91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81A-1DBF-44C6-818C-E288EF80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A8F-CF3A-4C9A-B124-E3326172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B8D-F157-42AE-BC45-0602EB57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6CFD578-E871-487D-9292-1C8438C551E0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6960" y="1360440"/>
            <a:ext cx="8137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работать программу, моделирующую жизнь поколений гипотетических колоний живых клеток, которые выживают, размножаются или погибают в соответствии со следующими прави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живая клетка имеет меньше 2 или более 3 соседей в окрестности из 8 клеток то в следующем поколении она умирает (моделирование реальных условий - недостатка питания или перенаселенности), в противном случае она выжива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 пустой клетке появляется живая клетка, если у исходной клетки ровно 3 со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чем процесс ро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гибели происходит за 1 ш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79880" y="3087720"/>
            <a:ext cx="1981080" cy="8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28960" y="308772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56240" y="460044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60600" y="46004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84240" y="582444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37:34Z</dcterms:modified>
  <cp:revision>2</cp:revision>
  <dc:subject/>
  <dc:title>Слайд 1</dc:title>
</cp:coreProperties>
</file>